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E7F-18AE-41A1-B1A5-C768270D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27C-9E7C-46AD-9502-E632FD8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767-A458-42AB-83C7-B82866D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328-B29C-4194-8C78-091973F4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9097-9E27-41A8-B674-F3B41446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6F47-2DC1-432E-A584-F553F2F7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C20-F988-4F2C-9F3B-C05DBFE9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93E6-C69A-466F-A27F-9DFB8067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6ED-E51F-4FB0-B2FF-80B0835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91E-C01E-4F11-BCC1-89F531FC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6D26-D40C-41CA-A5F8-FC20303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2B3-198C-41AD-813E-DF2C6F5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472-9112-458E-81B6-E45E0D8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EA9E-6278-419F-8FCE-7D8401D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4D5-6652-48EA-8E92-7A90B82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55C-7752-4CF9-9EA9-B0AB48DC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0672-CB70-4779-8DFE-891697FE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DA8-E0F7-4493-B4AA-8BB0C992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203-A908-4442-B974-A52C9FE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1C2-A59A-4901-888B-77EAFE1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23B-DF41-4B0B-BABB-B677901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560-FA2D-4031-A5BC-4FAA65A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DD8-0225-4D2B-83AE-15D5FB5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378-B3DD-49FE-939E-5FCE643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6E5-F890-4263-BAC7-D46B50C0C6DF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AD8-EC05-457C-A6D3-09106176A552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ivendi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Media &amp; Democracy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ontrol and Thought in Democracy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News Filters: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5" name="" descr="Illustration by POLYP"/>
          <p:cNvPicPr/>
          <p:nvPr/>
        </p:nvPicPr>
        <p:blipFill>
          <a:blip r:embed="rId2"/>
          <a:stretch/>
        </p:blipFill>
        <p:spPr>
          <a:xfrm>
            <a:off x="762120" y="1558800"/>
            <a:ext cx="739116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Business interests of the media’s owner compani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lling advertisers to audienc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ourcing information from agents of power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lak, pressure on journalists, and threats of legal action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Ideological belief in free markets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Ultra Concentrated Media: Top Selling Brands"/>
          <p:cNvPicPr/>
          <p:nvPr/>
        </p:nvPicPr>
        <p:blipFill>
          <a:blip r:embed="rId2"/>
          <a:stretch/>
        </p:blipFill>
        <p:spPr>
          <a:xfrm>
            <a:off x="533520" y="1371600"/>
            <a:ext cx="7696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http://www.vivendi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288108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http://www.aoltimewarner.com/"/>
          <p:cNvPicPr/>
          <p:nvPr/>
        </p:nvPicPr>
        <p:blipFill>
          <a:blip r:embed="rId4"/>
          <a:stretch/>
        </p:blipFill>
        <p:spPr>
          <a:xfrm>
            <a:off x="3276720" y="304920"/>
            <a:ext cx="288108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www.disney.com/"/>
          <p:cNvPicPr/>
          <p:nvPr/>
        </p:nvPicPr>
        <p:blipFill>
          <a:blip r:embed="rId5"/>
          <a:stretch/>
        </p:blipFill>
        <p:spPr>
          <a:xfrm>
            <a:off x="6095880" y="380880"/>
            <a:ext cx="280512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http://www.bertelsmann.com/"/>
          <p:cNvPicPr/>
          <p:nvPr/>
        </p:nvPicPr>
        <p:blipFill>
          <a:blip r:embed="rId6"/>
          <a:stretch/>
        </p:blipFill>
        <p:spPr>
          <a:xfrm>
            <a:off x="380880" y="3352680"/>
            <a:ext cx="2805120" cy="281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http://www.viacom.com/"/>
          <p:cNvPicPr/>
          <p:nvPr/>
        </p:nvPicPr>
        <p:blipFill>
          <a:blip r:embed="rId7"/>
          <a:stretch/>
        </p:blipFill>
        <p:spPr>
          <a:xfrm>
            <a:off x="3505320" y="35053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ttp://www.newscorp.com/"/>
          <p:cNvPicPr/>
          <p:nvPr/>
        </p:nvPicPr>
        <p:blipFill>
          <a:blip r:embed="rId8"/>
          <a:stretch/>
        </p:blipFill>
        <p:spPr>
          <a:xfrm>
            <a:off x="6248520" y="3657600"/>
            <a:ext cx="2562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2:31:52Z</dcterms:created>
  <dc:creator>Generic</dc:creator>
  <dc:description/>
  <dc:language>en-US</dc:language>
  <cp:lastModifiedBy>Generic</cp:lastModifiedBy>
  <dcterms:modified xsi:type="dcterms:W3CDTF">2006-02-13T02:57:05Z</dcterms:modified>
  <cp:revision>2</cp:revision>
  <dc:subject/>
  <dc:title>Media &amp; Democ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33</vt:lpwstr>
  </property>
</Properties>
</file>